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187-6D33-4AAA-BD4C-A8858874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198-9747-4FD4-A5A9-67649D81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825-4D6B-474B-AEBF-28CEA789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96F0-943F-43E4-909A-E136C50D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71F1-1C2D-42D5-ACED-A295C182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4C8B-F3F6-44EE-AB3F-14C7A1C5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8393-7001-4EF4-AC42-EF0D4780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E857-89C4-46B5-9650-78328351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2D65-3C62-429B-8577-D150ECBC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1631-D8B2-4231-B0C2-D1C204F3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2D0C-D16F-40B8-9D62-75FB959D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23B2-4BD0-4077-BEF6-C547F70F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9801-2AD5-4EC6-A980-3FB4BA54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AA95-C9C7-445C-BA49-7C2806B0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6106-340A-4357-B1C0-4FD78711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BCC5-BF68-4F7E-8F17-7FBD4439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090C-BCB8-4FF7-8417-9FAD02F5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BA0-434D-4128-A408-7A183FD1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5F8-9FA6-495B-ABF3-25BD0DF3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80E-48AD-41ED-9BE0-4082BD26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A886-E1F1-4885-9B54-DBA68694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B33-D0CE-48BC-9A58-043DA693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51A1-B535-4405-AEA4-70AD8AEC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F152-9DA2-4487-ADB3-B8639158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0734-B66F-42C8-9DD0-4A54DC9EB25F}" type="slidenum">
              <a:rPr b="0" lang="tr-TR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FEE0-7BFA-4C9C-AC4B-4D35C38ED93C}" type="slidenum">
              <a:rPr b="0" lang="tr-T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tr-TR" sz="6000" spc="-1" strike="noStrike">
                <a:solidFill>
                  <a:srgbClr val="eaeaea"/>
                </a:solidFill>
                <a:latin typeface="Tahoma"/>
              </a:rPr>
              <a:t>	</a:t>
            </a:r>
            <a:br>
              <a:rPr sz="6000"/>
            </a:br>
            <a:r>
              <a:rPr b="1" lang="tr-TR" sz="6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tr-TR" sz="6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tr-TR" sz="6000" spc="-1" strike="noStrike">
                <a:solidFill>
                  <a:srgbClr val="eaeaea"/>
                </a:solidFill>
                <a:latin typeface="Tahoma"/>
              </a:rPr>
              <a:t>FİİLLER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19560" y="2895480"/>
            <a:ext cx="7543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B)Fiillerde Kip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iillerde zaman,şahıs veya dilek bildiren, ek almış biçimlerine </a:t>
            </a:r>
            <a:r>
              <a:rPr b="0" i="1" lang="tr-TR" sz="2800" spc="-1" strike="noStrike">
                <a:solidFill>
                  <a:srgbClr val="ffffff"/>
                </a:solidFill>
                <a:latin typeface="Tahoma"/>
              </a:rPr>
              <a:t>kip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den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ipler ikiye ayrılı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aber ( bildirme) kiple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Dilek ( isteme) kiple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Haber Kipler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Zaman eklerinin hepsine birden haber kipleri den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aber kipleri şunlardı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Görülen ( di’li) geçmiş za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ğrenilen ( miş’li ) geçmiş za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imdiki za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Gelecek za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Geniş za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Görülen Geçmiş Zama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ylemlere ‘-dı, -di, -du, -dü’ ekleri getirilerek yapılır. Anlatan kişi olaya bizzat tanık olmuştu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eraber yürüdük biz bu yollar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eraber ıslandık yağan yağmur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ep birlikte geziye gitt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Öğrenilen Geçmiş Zaman</a:t>
            </a:r>
            <a:br>
              <a:rPr sz="3200"/>
            </a:b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ylemlere ‘-mış, -miş, -muş, -müş’ ekleri getirilrek yapılır. Daha çok başkasından duyulma, aktarılma,sonradan farkına varma anlamı taşır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aa! Çorabım kaçmış.(farkına varm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varmış, bir yokmuş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eni sormuşlar.(başkasından duym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emek güzel olmuş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16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Şimdiki Zama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yleme ‘-yor’ eki getirilerek yapılır. Eylem ile anlatış aynı zamanda gerçekleş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Ders çalışıyor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Gidiyorum, gurbeti gönlümde duya duy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yer var, biliyorum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er şeyi söylemek mümkü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peyce yaklaşmışım, duyuyorum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latamıyor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914400"/>
            <a:ext cx="74674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Gelecek Zama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yleme ‘–ecek, -acak’ ekleri getirilerek yapılır. İşin gelecekte yapılacağını bildir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nümden çekilirsen İstanbul görünec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erede olduğumu bileceğ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ktuba yazacak sözüm kalmad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ot: ’dır’ ekiyle birlikte kullanıldığında kesinlik anlamı taşır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arınki maç saat 14:00’te yapılacakt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Geniş Zama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yleme ‘-r, -ar, -er’ ekleri getirilerek yapıl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eni ancak ebediyetler eder istia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ğlarım, ağlatamam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issederim,söyleyem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enden sana sığınırı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iç yolcusu yokmuş gibi sessizce alır y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allanmaz o kalkışta ne mendil ne de bir k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1218960"/>
            <a:ext cx="7543800" cy="51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Dilek Kipleri</a:t>
            </a:r>
            <a:br>
              <a:rPr sz="4000"/>
            </a:br>
            <a:r>
              <a:rPr b="1" lang="tr-TR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iile dilek anlamı katan kiplerdir. Haber kipleri gibi belirgin bir zaman anlamı taşımazlar. 4’e ayrılı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Dilek- şart ki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stek ki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Gereklilik ki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mir ki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Dilek-Şart Kip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yleme ‘-se, -sa’ eki getirilerek yapılır. Fiilin yapılması dileğini bildir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taşındır” diyerek Kabe’yi diksem başın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Ruhumun vahyini duysam da geçirsem taşın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y Maraşlı Şeyhoğlu, evliyalar adağ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ahtına lanet olsun aşamadıysan bu dağ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en ki; a'sara gömülsen taşacaksın... Heyhat,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ana gelmez bu ufuklar, seni almaz bu ciha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İstek Kip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yleme ‘-a, -e’ ekleri getirilerek yapılır. Fiilin yapılmasının istendiğini bildir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urşunlara geles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eninle yine görüşel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ana duyduklarımı anlatayı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nu böyle biles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ki yoktan ne çıkar fikr </a:t>
            </a:r>
            <a:r>
              <a:rPr b="0" i="1" lang="tr-TR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delim bir kerre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-60984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Fiilleri şu başlıklar altında inceleyebiliriz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iiller (eyleml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iillerde k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iillerde anlam (kip, zaman) kaymas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pılarına göre fiil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Gereklilik Kip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yleme ‘-malı, -meli’ ekleri getirilerek yapılır. Belirtilen işin yapılması gerektiğini bildirir. 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“lâzım, gerek, icap eder” anlamlarını ver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ütün bunların üstüne 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epsinin üstüne sevda sözleri söylemeliyim </a:t>
            </a:r>
            <a:r>
              <a:rPr b="0" i="1" lang="tr-TR" sz="28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atanım milletim tüm insanlar kardeşlerim 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onra sen gelmelisin dilimin ucuna adın gelmeli 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dın kurtuluştur ama söylememeliyim</a:t>
            </a: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Can kuşum umudum canım sevgilim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5438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EMİR KİPİ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ylemin gösterdiği hareketin emir biçiminde yapılması gerektiğini ifade e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öyle yanıma gelsin.(3.tekil kişi emir ek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çeri buyrunuz. (2.tekil kişi emir ek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Lütfen işlerinizi iyi yapınız. (2.çoğul kişi emir ek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Çeneni kapa. (2.tekil kişi emir ek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Çatma, kurban olayım, çehreni ey nazlı hilal!</a:t>
            </a:r>
            <a:br>
              <a:rPr sz="2800"/>
            </a:br>
            <a:br>
              <a:rPr sz="2800"/>
            </a:b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Birleşik Zamanlı Fiille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iillere kip eklerinden sonra –idi, -imiş, -ise ekeylemlerinden biri getirilerek yapılır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ısacası, iki kip ekin üst üste gelmesi durumudu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çe ayrılı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ikaye birleşik za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Rivayet birleşik za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art birleşik za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Hikaye Birleşik Zama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aber ya da dilek kiplerindeki fiillerden birine -dı eki getirilerek yapılı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ikaye bileşik zamanı, eylemin geçmişte yapıldığını hikaye ederek anlatır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ahtayı ben sil-er-di-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4495680"/>
          <a:ext cx="5257800" cy="1889280"/>
        </p:xfrm>
        <a:graphic>
          <a:graphicData uri="http://schemas.openxmlformats.org/drawingml/2006/table">
            <a:tbl>
              <a:tblPr/>
              <a:tblGrid>
                <a:gridCol w="685800"/>
                <a:gridCol w="2210040"/>
                <a:gridCol w="1295280"/>
                <a:gridCol w="1066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ş za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k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kaye ek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şi ek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Rivayet Birleşik Zama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aber ya da dilek kiplerinden birine – miş eki getirilerek yapılı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Rivayet bileşik zamanı, eylemin başkasından duymuş gibi anlatımıdır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066680" y="3003840"/>
            <a:ext cx="622476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ahtayı hep ben sil - er - miş - 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4648320"/>
          <a:ext cx="5715000" cy="1888920"/>
        </p:xfrm>
        <a:graphic>
          <a:graphicData uri="http://schemas.openxmlformats.org/drawingml/2006/table">
            <a:tbl>
              <a:tblPr/>
              <a:tblGrid>
                <a:gridCol w="1257480"/>
                <a:gridCol w="1720800"/>
                <a:gridCol w="1698480"/>
                <a:gridCol w="10382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eniş</a:t>
                      </a:r>
                      <a:br>
                        <a:rPr sz="2800"/>
                      </a:b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aman</a:t>
                      </a:r>
                      <a:br>
                        <a:rPr sz="2800"/>
                      </a:b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k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ivayet</a:t>
                      </a:r>
                      <a:br>
                        <a:rPr sz="2800"/>
                      </a:b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k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işi</a:t>
                      </a:r>
                      <a:br>
                        <a:rPr sz="2800"/>
                      </a:b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k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</a:tr>
            </a:tbl>
          </a:graphicData>
        </a:graphic>
      </p:graphicFrame>
      <p:sp>
        <p:nvSpPr>
          <p:cNvPr id="162" name="Rectangle 56"/>
          <p:cNvSpPr/>
          <p:nvPr/>
        </p:nvSpPr>
        <p:spPr>
          <a:xfrm>
            <a:off x="1800" y="356616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Şart Birleşik Zama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aber kipinde fiillerden birine -se eki getirilerek yapılı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art birleşik zamanı, eylemin yapılışını başka bir eylemin yapılışına şart koş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arın bize gel - ir - se - n sevinir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447920" y="4572000"/>
          <a:ext cx="5715000" cy="1889280"/>
        </p:xfrm>
        <a:graphic>
          <a:graphicData uri="http://schemas.openxmlformats.org/drawingml/2006/table">
            <a:tbl>
              <a:tblPr/>
              <a:tblGrid>
                <a:gridCol w="1676160"/>
                <a:gridCol w="1447920"/>
                <a:gridCol w="1371600"/>
                <a:gridCol w="1219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eniş</a:t>
                      </a:r>
                      <a:br>
                        <a:rPr sz="2800"/>
                      </a:b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aman</a:t>
                      </a:r>
                      <a:br>
                        <a:rPr sz="2800"/>
                      </a:b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k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şart</a:t>
                      </a:r>
                      <a:br>
                        <a:rPr sz="2800"/>
                      </a:b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k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işi</a:t>
                      </a:r>
                      <a:br>
                        <a:rPr sz="2800"/>
                      </a:b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k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9900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Birleşik zamanlı fiiller ile ilgili örnekler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üzüme bu türlü bakmayacaktın. (Gelecek zamanın hikayes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ağmurlardan sonra büyürmüş başak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yveler sabırla olgunlaşırmış. (geniş zamanın rivayeti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en de gelecekmişsin.(Gelecek zamanın rivayet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nu daha önce yapmalıymışım. (Gereklilik kipinin rivayet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Gülüyorsam mutlu olduğumdan değildir. (Şimdiki zamanın şartı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C) Fiillerde Anlam Kayması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838080" y="1538280"/>
            <a:ext cx="830592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zaman kipinin ya da bir dilek kipinin başka bir kipin yerine kullanılmasıd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Derslerime her hafta düzenli olarak çalışıyor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ser Selçuklulardan kalma olaca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atih, o yıllarda pek çok sefer yap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ktubu yarın al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ütün soruları çözeceks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rkadaşlar, bundan sonra daha yoğun bir şekilde çalışıyoru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5438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E) Yapılarına Göre Fiille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apılarına göre fiiller üç grupta incelen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asit fiill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üremiş fii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leşik fii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8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Basit Fiille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içbir yapım eki almamış fiillerd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Güzel söz söyleyebilmek için güzel düşünmek gerek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Dostluk bir şemsiyeye benzer.İnsan onları ancak kötü havalarda is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stediğim her şeyi yaptım;çünkü yapamayacağımı düşündüğüm şeyi isted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üyük adam büyük olduğunu; büyüklüğün küçüklük olduğunu bil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543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A) Fiiller( Eylemler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oluşu, bir durumu veya bir işi kip ve kişiye bağlayarak anlatan sözcüklere </a:t>
            </a:r>
            <a:r>
              <a:rPr b="0" i="1" lang="tr-TR" sz="2800" spc="-1" strike="noStrike" u="sng">
                <a:solidFill>
                  <a:srgbClr val="ffffff"/>
                </a:solidFill>
                <a:uFillTx/>
                <a:latin typeface="Tahoma"/>
              </a:rPr>
              <a:t>fii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den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75438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Türemiş Fiiller</a:t>
            </a:r>
            <a:br>
              <a:rPr sz="2800"/>
            </a:br>
            <a:r>
              <a:rPr b="1" lang="tr-TR" sz="2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apım eki almış fiillerdir. Türkçede fiil türetmenin iki yolu vardı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sim kök ya da gövdelerinden fiil türetm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* güzel-leş, *sarı-ar, *ışıl-da, *göz-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*az-al, *ben-imse, *ince-l, *düz-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*su- sa, * sivri-l, *yaş-a, * kan-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iilden fiil türetme:</a:t>
            </a: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* sev-in, *çık-ar, * kız-ış, *bak-ı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* öl-dür, * taşı-t, *at-ıl, *kan-dır, *koş-t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Birleşik Fiille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n az iki sözcüğün birleşmesiyle oluşan fiiller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ç grupta inceleni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lamca kaynaşmış fii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ardımcı fiiller yapılan birleşik fii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zel kurallı birleşik fii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5438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Anlamca Kaynaşmış Birleşik Fiille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isimle bir fiilin anlam yönünden birleşip  kaynaşmasıyla oluş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sözcüklerden biri  ya da ikisi gerçek anlamını yitirir. Deyimlerin çoğu bu türe örnekt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en kimsin ki bana kafa tutuyorsu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tehditlerinle gözümü korkutamazsı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nemin yemekleri hoşuna gitti mi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Odasında kitaplarına göz atıyord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dama laf anlatmaktan dilimde tüy bit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onuşulanlara ben de kulak kabarttı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Yardımcı Fiillerle Yapılan Birleşik Fiille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sim soylu bir sözcüğün üzerine -et , -ol , -kıl</a:t>
            </a: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 ,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-eyle</a:t>
            </a: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gibi yardımcı eylemler getirilerek yapılı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even bu gönül seni asla terk etmeyece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ayat uykuyla uyanıklık arasında raks e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usanç duyan gözlerim bir şeyde karar kıld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eyreyleyelim mehtabı yıldızların altında</a:t>
            </a:r>
            <a:r>
              <a:rPr b="0" lang="tr-TR" sz="9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-73296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685440"/>
            <a:ext cx="7543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Tahoma"/>
              </a:rPr>
              <a:t>Birleşik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Fiiller (Deva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UYARI 1: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türle yapılan birleşik fiilin isim kısmında bir ünlü düşmesi ya da bir ünsüz türemesi varsa birleşik fiil bitişik yazılır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enliğime hakim olur bir deli rüzg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gün bana döneceğini hissediyoru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ma dönsen de seni asla affetmeyeceğ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abreden derviş muradına ermiş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6197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Birleşik Fiiller (Devam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UYARI 2 :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t-, ol- yardımcı eylemleri tek başına bir anlam taşıyorsa  ve önündeki isimle kaynaşmamışsa kendi görevinde kullanılmış demektir yani asıl fiil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öyümüzde şimdi kirazlar olmuştu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lindeki gömlek ancak beş milyon lira e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en ettim sen et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Özel (Kurallı) Birleşik Fiille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ki fiilin birleşmesi yoluyla oluşur. Tamamı bitişik yazılı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Dört grupta inceleni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eterlilik fii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ezlik birleşik fi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üreklilik birleşik fi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aklaşma fii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5438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Yeterlilik Fiili </a:t>
            </a:r>
            <a:r>
              <a:rPr b="1" lang="tr-TR" sz="4400" spc="-1" strike="noStrike">
                <a:solidFill>
                  <a:srgbClr val="eaeaea"/>
                </a:solidFill>
                <a:latin typeface="Tahoma"/>
              </a:rPr>
              <a:t>( </a:t>
            </a: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fiil + ebil-</a:t>
            </a:r>
            <a:r>
              <a:rPr b="1" lang="tr-TR" sz="4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Cümleye gücü yetme ve olasılık anlamı katar. Fiilin üzerine e-bilmek getirilerek oluşturulu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genç yaşımda ölebiliri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iirlerimi söylemeden gidebilirim buralard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gece ansızın gelebiliri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evinçten kapında bayılabilir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ınıfı geçebilir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Tezlik Birleşik Fiil (Fiil+iver-)</a:t>
            </a:r>
            <a:r>
              <a:rPr b="1" lang="tr-TR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Cümleye tezlik çabukluk anlamı ka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Uzanıp 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Tahoma"/>
              </a:rPr>
              <a:t>tutuver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elimi ne olur geri dö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kşamın derin kızıllığında 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Tahoma"/>
              </a:rPr>
              <a:t>kayboluverd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Tahoma"/>
              </a:rPr>
              <a:t>Uzanıverse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gövdem taşlara boydan boy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olisler kaçan hırsızı 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Tahoma"/>
              </a:rPr>
              <a:t>yakalayıverd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nesini görünce 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Tahoma"/>
              </a:rPr>
              <a:t>koşuverd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eaeaea"/>
                </a:solidFill>
                <a:latin typeface="Tahoma"/>
              </a:rPr>
              <a:t>Süreklilik Birleşik </a:t>
            </a: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Fiil (fiil+ edur, kal,  gel):</a:t>
            </a:r>
            <a:r>
              <a:rPr b="1" lang="tr-TR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Cümleye devam etme, süreklilik anlamı ka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hikaye yıllardır süregel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elevizyonun karşısında uyuyakalmışı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Gidedursun turnalar, gurbet ell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Listede ismimi göremeyince listeye bakakaldı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5438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Fiiller (Devam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ratik olarak ismi fiilden ayırmak için –me, -ma olumsuzluk ekini ya da –me, -ma mastar ekini kullanırı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Yaklaşma Fiil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ylemin gerçekleşmesine çok az bir zaman kaldığını ifade eder. Az kalsın olacaktı anlamı ver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aldırımda yürürken düşeyazdı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Onu karşımda görünce korkudan öleyazdı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379760" y="946800"/>
            <a:ext cx="34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Tahoma"/>
              </a:rPr>
              <a:t>(fiil+ eyaz)</a:t>
            </a: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Arial"/>
              </a:rPr>
              <a:t>Fiiller (Devam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ğer bir kelimenin sonuna olumsuzluk ekini ve mastar ekini getirebiliyorsak o kelime fiildir, getiremiyorsak isim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Geldi…gelmedi, gelm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Oturmuş…oturmamış, oturm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öylüyorum…söylemiyorum, söylem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ffff"/>
                </a:solidFill>
                <a:latin typeface="Tahoma"/>
              </a:rPr>
              <a:t>Kitap…kitapma, kitapm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Fiiller, anlamlarına göre üçe ayrılır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ş fiille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Durum fiille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Oluş fiille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75438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İş Fiiller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esne alan, hareket bildiren ve ‘neyi,kimi’ sorularına cevap veren fiiller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ırmak, atmak, dikmek, içm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aba koruk yer, oğlunun dişi kamaşı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işi olsa olsa sen yaparsı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Durum Fiilleri</a:t>
            </a:r>
            <a:br>
              <a:rPr sz="3200"/>
            </a:b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esne almayan, öznenin içinde bulunduğu durumu gösteren fiiller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ürümek, oturmak, gitmek, ağlam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u uyur, düşman uyuma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Can çıkar, huy çıkma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Oluş Fiilleri</a:t>
            </a:r>
            <a:br>
              <a:rPr sz="3200"/>
            </a:br>
            <a:r>
              <a:rPr b="1" lang="tr-TR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endiliğinden ve zaman içerisinde gerçekleşen fiiller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ararmak, yaşlanmak, uzam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Yine yeşillendi fındık dallar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Genç yaşta ağardı saçları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ÖZCAN AK</cp:lastModifiedBy>
  <dcterms:modified xsi:type="dcterms:W3CDTF">2011-01-02T15:24:4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